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152-3302-4600-A459-308E5C9C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895-52E6-4A09-9D4A-7F156751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4A7-7D01-47D3-A3D8-01EBC681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124-FFB6-4C8D-8CAC-10478783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A791-5EC5-4F28-8D06-063D1EA6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3BB2-3D01-4EF3-BB13-39950FDC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05D3-CD03-4F36-A2E3-43A5E610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97EC-4701-4B45-92E7-4564E753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88CA-7A2C-4AC1-ACC5-EEB04E2C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4A6F-EECC-4A2F-BE69-B9732D0D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3902-56E6-4ABA-9421-F7871B36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31A-D6E5-46CE-B207-1A680159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6EB0-C404-4F0E-99A8-92252A39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FA14-AF00-4A4B-8C49-2A86BA0F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E7A1-F6DF-4733-A8EB-6E756E2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7699-37EB-4A50-83D6-D1A5D607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42C8-490E-484E-884F-DFFD2755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E26-96DD-4924-9C36-3D50D575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269-D3EA-45FF-B513-BAD240CE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5EF3-62F4-4AA4-8C3B-0AE87C2A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820-9C3F-40BB-9838-99F3A0F2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A56-28F6-4FFB-8CA9-09EE495E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88C-DC87-4889-98D9-900D787B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3F5-B63A-4CBA-9CF8-AC34ADD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E979-680B-42F1-84F1-FA23752CF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44D5-8BB9-4F8E-9B9A-20624F1870F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plying and Dividing Monomi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v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6720" y="2133360"/>
            <a:ext cx="221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0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5812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ik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4800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2800" spc="-1" strike="noStrike">
                <a:solidFill>
                  <a:srgbClr val="00e4a8"/>
                </a:solidFill>
                <a:latin typeface="Arial"/>
              </a:rPr>
              <a:t> 6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26668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581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3 -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4 -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62520" y="3352680"/>
            <a:ext cx="838080" cy="1323000"/>
            <a:chOff x="3962520" y="3352680"/>
            <a:chExt cx="838080" cy="1323000"/>
          </a:xfrm>
        </p:grpSpPr>
        <p:sp>
          <p:nvSpPr>
            <p:cNvPr id="160" name=""/>
            <p:cNvSpPr/>
            <p:nvPr/>
          </p:nvSpPr>
          <p:spPr>
            <a:xfrm>
              <a:off x="3962520" y="3352680"/>
              <a:ext cx="838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-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38480" y="4038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v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66720" y="2133360"/>
            <a:ext cx="167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5812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the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ik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2666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581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 -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4 -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038480" y="3276720"/>
            <a:ext cx="685800" cy="1323000"/>
            <a:chOff x="4038480" y="3276720"/>
            <a:chExt cx="685800" cy="1323000"/>
          </a:xfrm>
        </p:grpSpPr>
        <p:sp>
          <p:nvSpPr>
            <p:cNvPr id="168" name=""/>
            <p:cNvSpPr/>
            <p:nvPr/>
          </p:nvSpPr>
          <p:spPr>
            <a:xfrm>
              <a:off x="4038480" y="3276720"/>
              <a:ext cx="6858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800" y="38862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286000" y="4800600"/>
            <a:ext cx="3096000" cy="1262160"/>
            <a:chOff x="2286000" y="4800600"/>
            <a:chExt cx="3096000" cy="1262160"/>
          </a:xfrm>
        </p:grpSpPr>
        <p:sp>
          <p:nvSpPr>
            <p:cNvPr id="171" name=""/>
            <p:cNvSpPr/>
            <p:nvPr/>
          </p:nvSpPr>
          <p:spPr>
            <a:xfrm>
              <a:off x="2286000" y="4800600"/>
              <a:ext cx="228600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swer: </a:t>
              </a:r>
              <a:r>
                <a:rPr b="0" lang="en-US" sz="2800" spc="-1" strike="noStrike">
                  <a:solidFill>
                    <a:srgbClr val="00e4a8"/>
                  </a:solidFill>
                  <a:latin typeface="Arial"/>
                </a:rPr>
                <a:t> 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   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-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06120" y="5029200"/>
              <a:ext cx="87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n</a:t>
              </a:r>
              <a:r>
                <a:rPr b="0" lang="en-US" sz="3200" spc="-1" strike="noStrike" baseline="30000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54104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638680" y="4724280"/>
            <a:ext cx="1752840" cy="2064600"/>
            <a:chOff x="5638680" y="4724280"/>
            <a:chExt cx="1752840" cy="2064600"/>
          </a:xfrm>
        </p:grpSpPr>
        <p:sp>
          <p:nvSpPr>
            <p:cNvPr id="175" name=""/>
            <p:cNvSpPr/>
            <p:nvPr/>
          </p:nvSpPr>
          <p:spPr>
            <a:xfrm>
              <a:off x="6095880" y="53341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638680" y="4724280"/>
              <a:ext cx="1752840" cy="2064600"/>
              <a:chOff x="5638680" y="4724280"/>
              <a:chExt cx="1752840" cy="2064600"/>
            </a:xfrm>
          </p:grpSpPr>
          <p:sp>
            <p:nvSpPr>
              <p:cNvPr id="177" name=""/>
              <p:cNvSpPr/>
              <p:nvPr/>
            </p:nvSpPr>
            <p:spPr>
              <a:xfrm>
                <a:off x="6095880" y="4724280"/>
                <a:ext cx="1295640" cy="206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e4a8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m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n</a:t>
                </a:r>
                <a:r>
                  <a:rPr b="0" lang="en-US" sz="3200" spc="-1" strike="noStrike" baseline="30000">
                    <a:solidFill>
                      <a:srgbClr val="3333cc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e4a8"/>
                    </a:solidFill>
                    <a:latin typeface="Arial"/>
                  </a:rPr>
                  <a:t>- 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38680" y="51814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268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y Thi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4920" y="22856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4100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2800" spc="-1" strike="noStrike">
                <a:solidFill>
                  <a:srgbClr val="00e4a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2819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4038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 -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 -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876920" y="2286000"/>
            <a:ext cx="2514600" cy="1143000"/>
            <a:chOff x="4876920" y="2286000"/>
            <a:chExt cx="2514600" cy="1143000"/>
          </a:xfrm>
        </p:grpSpPr>
        <p:sp>
          <p:nvSpPr>
            <p:cNvPr id="185" name=""/>
            <p:cNvSpPr/>
            <p:nvPr/>
          </p:nvSpPr>
          <p:spPr>
            <a:xfrm>
              <a:off x="4876920" y="2286000"/>
              <a:ext cx="2514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.   - 3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8680" y="2819520"/>
              <a:ext cx="12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105520" y="3886200"/>
            <a:ext cx="838080" cy="1143000"/>
            <a:chOff x="5105520" y="3886200"/>
            <a:chExt cx="838080" cy="1143000"/>
          </a:xfrm>
        </p:grpSpPr>
        <p:sp>
          <p:nvSpPr>
            <p:cNvPr id="188" name=""/>
            <p:cNvSpPr/>
            <p:nvPr/>
          </p:nvSpPr>
          <p:spPr>
            <a:xfrm>
              <a:off x="5105520" y="3886200"/>
              <a:ext cx="761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-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81480" y="44197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943600" y="4038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0 -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7 -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733920" y="5105520"/>
            <a:ext cx="2938680" cy="1262160"/>
            <a:chOff x="3733920" y="5105520"/>
            <a:chExt cx="2938680" cy="1262160"/>
          </a:xfrm>
        </p:grpSpPr>
        <p:sp>
          <p:nvSpPr>
            <p:cNvPr id="192" name=""/>
            <p:cNvSpPr/>
            <p:nvPr/>
          </p:nvSpPr>
          <p:spPr>
            <a:xfrm>
              <a:off x="3733920" y="5105520"/>
              <a:ext cx="228600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swer: </a:t>
              </a:r>
              <a:r>
                <a:rPr b="0" lang="en-US" sz="2800" spc="-1" strike="noStrike">
                  <a:solidFill>
                    <a:srgbClr val="00e4a8"/>
                  </a:solidFill>
                  <a:latin typeface="Arial"/>
                </a:rPr>
                <a:t> 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    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e4a8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52600" y="5334120"/>
              <a:ext cx="72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y</a:t>
              </a:r>
              <a:r>
                <a:rPr b="0" lang="en-US" sz="3200" spc="-1" strike="noStrike" baseline="30000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4120" y="57153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629400" y="4998960"/>
            <a:ext cx="1752120" cy="2064600"/>
            <a:chOff x="6629400" y="4998960"/>
            <a:chExt cx="1752120" cy="2064600"/>
          </a:xfrm>
        </p:grpSpPr>
        <p:sp>
          <p:nvSpPr>
            <p:cNvPr id="196" name=""/>
            <p:cNvSpPr/>
            <p:nvPr/>
          </p:nvSpPr>
          <p:spPr>
            <a:xfrm>
              <a:off x="7086240" y="560880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6629400" y="4998960"/>
              <a:ext cx="1752120" cy="2064600"/>
              <a:chOff x="6629400" y="4998960"/>
              <a:chExt cx="1752120" cy="2064600"/>
            </a:xfrm>
          </p:grpSpPr>
          <p:sp>
            <p:nvSpPr>
              <p:cNvPr id="198" name=""/>
              <p:cNvSpPr/>
              <p:nvPr/>
            </p:nvSpPr>
            <p:spPr>
              <a:xfrm>
                <a:off x="7086240" y="4998960"/>
                <a:ext cx="1295280" cy="206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e4a8"/>
                    </a:solidFill>
                    <a:latin typeface="Arial"/>
                  </a:rPr>
                  <a:t>-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y</a:t>
                </a:r>
                <a:r>
                  <a:rPr b="0" lang="en-US" sz="3200" spc="-1" strike="noStrike" baseline="30000">
                    <a:solidFill>
                      <a:srgbClr val="3333cc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e4a8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9400" y="5456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wer of a Produc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33360" y="2133360"/>
            <a:ext cx="1143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72428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Rule 4:  (xy)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b)(a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91320" y="2057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27432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b)(ab)(a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886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0920" y="5486400"/>
            <a:ext cx="64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y the exponent outside the () time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 inside the 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4648320"/>
            <a:ext cx="68580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1320" y="342900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a)(b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33526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aa)(bb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wer of a Produc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33360" y="2361960"/>
            <a:ext cx="1981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5943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Rule 4:  (xy)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31240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9•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•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7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2096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5943600"/>
            <a:ext cx="685800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35053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•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1•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20•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411480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274320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447560" y="2209320"/>
            <a:ext cx="49356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407960" y="2859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209680"/>
            <a:ext cx="76320" cy="1219320"/>
          </a:xfrm>
          <a:custGeom>
            <a:avLst/>
            <a:gdLst>
              <a:gd name="textAreaLeft" fmla="*/ 22320 w 76320"/>
              <a:gd name="textAreaRight" fmla="*/ 76320 w 7632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828800" y="2209680"/>
            <a:ext cx="76320" cy="1219320"/>
          </a:xfrm>
          <a:custGeom>
            <a:avLst/>
            <a:gdLst>
              <a:gd name="textAreaLeft" fmla="*/ 22320 w 76320"/>
              <a:gd name="textAreaRight" fmla="*/ 76320 w 7632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371600" y="3657600"/>
            <a:ext cx="3084480" cy="1411200"/>
            <a:chOff x="1371600" y="3657600"/>
            <a:chExt cx="3084480" cy="1411200"/>
          </a:xfrm>
        </p:grpSpPr>
        <p:sp>
          <p:nvSpPr>
            <p:cNvPr id="228" name=""/>
            <p:cNvSpPr/>
            <p:nvPr/>
          </p:nvSpPr>
          <p:spPr>
            <a:xfrm>
              <a:off x="1447920" y="3733920"/>
              <a:ext cx="49356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407960" y="4383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7160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82880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3657600"/>
              <a:ext cx="53316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322360" y="4383000"/>
              <a:ext cx="49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86000" y="3733920"/>
              <a:ext cx="82440" cy="121896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742480" y="3733920"/>
              <a:ext cx="82440" cy="1218960"/>
            </a:xfrm>
            <a:custGeom>
              <a:avLst/>
              <a:gdLst>
                <a:gd name="textAreaLeft" fmla="*/ 24120 w 82440"/>
                <a:gd name="textAreaRight" fmla="*/ 82800 w 8244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3733920"/>
              <a:ext cx="49356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160800" y="4383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408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58128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62520" y="3733920"/>
              <a:ext cx="49356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922560" y="4383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8620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343400" y="3733920"/>
              <a:ext cx="76320" cy="12189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8960"/>
                <a:gd name="textAreaBottom" fmla="*/ 11682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12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952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4114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724280" y="3809880"/>
            <a:ext cx="1371600" cy="1335240"/>
            <a:chOff x="4724280" y="3809880"/>
            <a:chExt cx="1371600" cy="1335240"/>
          </a:xfrm>
        </p:grpSpPr>
        <p:sp>
          <p:nvSpPr>
            <p:cNvPr id="248" name=""/>
            <p:cNvSpPr/>
            <p:nvPr/>
          </p:nvSpPr>
          <p:spPr>
            <a:xfrm>
              <a:off x="47242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34120" y="3809880"/>
              <a:ext cx="76176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334120" y="434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143000" y="5029200"/>
            <a:ext cx="3733920" cy="1563840"/>
            <a:chOff x="1143000" y="5029200"/>
            <a:chExt cx="3733920" cy="1563840"/>
          </a:xfrm>
        </p:grpSpPr>
        <p:sp>
          <p:nvSpPr>
            <p:cNvPr id="252" name=""/>
            <p:cNvSpPr/>
            <p:nvPr/>
          </p:nvSpPr>
          <p:spPr>
            <a:xfrm>
              <a:off x="1143000" y="5638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8000"/>
                  </a:solidFill>
                  <a:latin typeface="Arial"/>
                </a:rPr>
                <a:t>Rule 5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90920" y="5257800"/>
              <a:ext cx="49356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8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8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550960" y="5907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14600" y="5257800"/>
              <a:ext cx="76320" cy="12193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9320"/>
                <a:gd name="textAreaBottom" fmla="*/ 11685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971800" y="5257800"/>
              <a:ext cx="76320" cy="12193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50760 h 1219320"/>
                <a:gd name="textAreaBottom" fmla="*/ 11685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4812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8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81280" y="5486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8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800" y="5181480"/>
              <a:ext cx="76212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8000"/>
                  </a:solidFill>
                  <a:latin typeface="Arial"/>
                </a:rPr>
                <a:t>x</a:t>
              </a:r>
              <a:r>
                <a:rPr b="0" lang="en-US" sz="3200" spc="-1" strike="noStrike" baseline="30000">
                  <a:solidFill>
                    <a:srgbClr val="ff8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8000"/>
                  </a:solidFill>
                  <a:latin typeface="Arial"/>
                </a:rPr>
                <a:t>y</a:t>
              </a:r>
              <a:r>
                <a:rPr b="0" lang="en-US" sz="3200" spc="-1" strike="noStrike" baseline="30000">
                  <a:solidFill>
                    <a:srgbClr val="ff8000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4114800" y="5715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914400" y="5105520"/>
            <a:ext cx="678168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y Thi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3200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   (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5943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Rule 4:  (xy)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 = x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ff8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35053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•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4•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4038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2209680"/>
            <a:ext cx="2895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(4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5943600"/>
            <a:ext cx="685800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812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•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•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•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z</a:t>
            </a:r>
            <a:r>
              <a:rPr b="0" lang="en-US" sz="3200" spc="-1" strike="noStrike" baseline="30000">
                <a:solidFill>
                  <a:srgbClr val="800080"/>
                </a:solidFill>
                <a:latin typeface="Arial"/>
              </a:rPr>
              <a:t>2•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4191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256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z</a:t>
            </a:r>
            <a:r>
              <a:rPr b="0" lang="en-US" sz="3200" spc="-1" strike="noStrike" baseline="30000">
                <a:solidFill>
                  <a:srgbClr val="80008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29718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91320" y="28954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3200" spc="-1" strike="noStrike" baseline="30000">
                <a:solidFill>
                  <a:srgbClr val="00e4a8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466 - 467 #5, 6 - 36 even, 39,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oncept of a mo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operties of exponents to simplify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nomi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ression that is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429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0384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duct of a constant and 1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27432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733920" y="2819520"/>
            <a:ext cx="2361960" cy="520560"/>
            <a:chOff x="3733920" y="2819520"/>
            <a:chExt cx="2361960" cy="520560"/>
          </a:xfrm>
        </p:grpSpPr>
        <p:sp>
          <p:nvSpPr>
            <p:cNvPr id="107" name=""/>
            <p:cNvSpPr/>
            <p:nvPr/>
          </p:nvSpPr>
          <p:spPr>
            <a:xfrm>
              <a:off x="4495680" y="28195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, -21,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920" y="304812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114800" y="4572000"/>
            <a:ext cx="4267080" cy="520560"/>
            <a:chOff x="4114800" y="4572000"/>
            <a:chExt cx="4267080" cy="520560"/>
          </a:xfrm>
        </p:grpSpPr>
        <p:sp>
          <p:nvSpPr>
            <p:cNvPr id="110" name=""/>
            <p:cNvSpPr/>
            <p:nvPr/>
          </p:nvSpPr>
          <p:spPr>
            <a:xfrm>
              <a:off x="4876920" y="457200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x, 4a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 -7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14800" y="4800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04960" y="2057400"/>
            <a:ext cx="232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2819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895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ik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181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ultiplying, add th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4343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3733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property was appl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3733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e4a8"/>
                </a:solidFill>
                <a:latin typeface="Arial"/>
              </a:rPr>
              <a:t>Commuta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0" y="205740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0" y="205740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743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the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p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0" y="205740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666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276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ik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5181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ultiplying, add the expon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3434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7432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the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2767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y Thi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2361960"/>
            <a:ext cx="3200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 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1240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11480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(3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-5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952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0" lang="en-US" sz="2800" spc="-1" strike="noStrike">
                <a:solidFill>
                  <a:srgbClr val="00e4a8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v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66720" y="213336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581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ik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8006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ivid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the 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867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26668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48006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7 -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5 -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62520" y="3352680"/>
            <a:ext cx="685800" cy="1323000"/>
            <a:chOff x="3962520" y="3352680"/>
            <a:chExt cx="685800" cy="1323000"/>
          </a:xfrm>
        </p:grpSpPr>
        <p:sp>
          <p:nvSpPr>
            <p:cNvPr id="146" name=""/>
            <p:cNvSpPr/>
            <p:nvPr/>
          </p:nvSpPr>
          <p:spPr>
            <a:xfrm>
              <a:off x="3962520" y="3352680"/>
              <a:ext cx="6858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4038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00600" y="3429000"/>
            <a:ext cx="1371600" cy="1323000"/>
            <a:chOff x="4800600" y="3429000"/>
            <a:chExt cx="1371600" cy="1323000"/>
          </a:xfrm>
        </p:grpSpPr>
        <p:grpSp>
          <p:nvGrpSpPr>
            <p:cNvPr id="149" name=""/>
            <p:cNvGrpSpPr/>
            <p:nvPr/>
          </p:nvGrpSpPr>
          <p:grpSpPr>
            <a:xfrm>
              <a:off x="5334120" y="3429000"/>
              <a:ext cx="838080" cy="1323000"/>
              <a:chOff x="5334120" y="3429000"/>
              <a:chExt cx="838080" cy="1323000"/>
            </a:xfrm>
          </p:grpSpPr>
          <p:sp>
            <p:nvSpPr>
              <p:cNvPr id="150" name=""/>
              <p:cNvSpPr/>
              <p:nvPr/>
            </p:nvSpPr>
            <p:spPr>
              <a:xfrm>
                <a:off x="533412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10080" y="3429000"/>
                <a:ext cx="76212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b</a:t>
                </a:r>
                <a:r>
                  <a:rPr b="0" lang="en-US" sz="3200" spc="-1" strike="noStrike" baseline="30000">
                    <a:solidFill>
                      <a:srgbClr val="3333cc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3333cc"/>
                    </a:solidFill>
                    <a:latin typeface="Arial"/>
                  </a:rPr>
                  <a:t>b</a:t>
                </a:r>
                <a:r>
                  <a:rPr b="0" lang="en-US" sz="3200" spc="-1" strike="noStrike" baseline="30000">
                    <a:solidFill>
                      <a:srgbClr val="3333cc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800600" y="37339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3:37:44Z</dcterms:created>
  <dc:creator>AAPS</dc:creator>
  <dc:description/>
  <dc:language>en-US</dc:language>
  <cp:lastModifiedBy>SCSCHOOLS</cp:lastModifiedBy>
  <dcterms:modified xsi:type="dcterms:W3CDTF">2011-02-11T19:14:52Z</dcterms:modified>
  <cp:revision>14</cp:revision>
  <dc:subject/>
  <dc:title>Multiplying and Dividing Monomials</dc:title>
</cp:coreProperties>
</file>